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71286"/>
        <c:axId val="51401551"/>
      </c:barChart>
      <c:catAx>
        <c:axId val="72371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01551"/>
        <c:crosses val="autoZero"/>
        <c:auto val="1"/>
        <c:lblAlgn val="ctr"/>
        <c:lblOffset val="100"/>
        <c:noMultiLvlLbl val="0"/>
      </c:catAx>
      <c:valAx>
        <c:axId val="51401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71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C74-AAF6-4AD5-90C2-78C6791B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C62-0F60-4E5D-B73C-6BC540DE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A42-4E45-4F89-83F2-EE31F157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7AE-4DC7-43E7-8A62-958CE06B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88A-E6B5-45B3-BC90-4DD668E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EEB-5A4F-41D2-A7E6-D01FA444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9C5-F269-4EB1-8614-B2374F8F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03C-2C6E-4CFA-A2BE-4D7FD88B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D4B-AEF3-42EC-9014-641FA0E8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427-F15C-4A3B-AA0C-79C28FEE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9A5-F2F8-423A-B993-AA3DB40A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2F2-BD1A-4DBE-B3B9-95330EE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3DF19-CFDC-4836-A74D-55A27E4135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