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04329"/>
        <c:axId val="90220975"/>
      </c:barChart>
      <c:catAx>
        <c:axId val="79404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20975"/>
        <c:crosses val="autoZero"/>
        <c:auto val="1"/>
        <c:lblAlgn val="ctr"/>
        <c:lblOffset val="100"/>
        <c:noMultiLvlLbl val="0"/>
      </c:catAx>
      <c:valAx>
        <c:axId val="90220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4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915-411D-41F2-9B79-3C22C9C1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9D3-9DC9-4066-A1FE-D06D1ECF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3C5-EDBB-40A4-A0C8-7DCA5DD6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3CC-1728-41B5-BEA8-E9B3DDD7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CB5-590A-43F5-A303-D539B341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6EA-B298-4793-A0AC-BBA870EC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308-D387-4374-BEDB-EE1DB2F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A30-CF43-42B7-9B79-F32C07B8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FC0-48B3-4A3D-9378-7C845E9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6BB-8DD5-4BF8-A350-C161315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8AC-9035-4B7C-B41F-12634A4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881-CCAF-4B49-A169-2023EC5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5C19C-030F-4AE5-854B-54D4CB994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