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6658"/>
        <c:axId val="4396157"/>
      </c:barChart>
      <c:catAx>
        <c:axId val="2556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157"/>
        <c:crosses val="autoZero"/>
        <c:auto val="1"/>
        <c:lblAlgn val="ctr"/>
        <c:lblOffset val="100"/>
        <c:noMultiLvlLbl val="0"/>
      </c:catAx>
      <c:valAx>
        <c:axId val="4396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6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1F4-6D03-4A89-BE03-57AC978E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6A0-803C-495C-80A9-E2A149E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AC1-FD73-44C1-B025-F443F713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FC8-CBF0-4ADE-B358-93311271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A5E-C2BB-48F9-B330-0B80342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19C-9A88-47F0-B8F2-DE5F9999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ACB-BEBF-4C48-9AA4-13B526E3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863-864A-4403-B3FB-5BB6E21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777-8022-4433-B8CF-04748AFD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D52-6B83-43BD-A4A5-7122DD0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5DB-A8D8-44B1-A2CB-FD3207E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155-434C-4889-B6EF-4421EC4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EBA2-CE0F-4355-92E3-0B82A414F4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