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753210"/>
        <c:axId val="50992868"/>
      </c:barChart>
      <c:catAx>
        <c:axId val="827532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992868"/>
        <c:crosses val="autoZero"/>
        <c:auto val="1"/>
        <c:lblAlgn val="ctr"/>
        <c:lblOffset val="100"/>
        <c:noMultiLvlLbl val="0"/>
      </c:catAx>
      <c:valAx>
        <c:axId val="509928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7532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70CF-EFB3-4A98-9937-082C2EDF5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8804-E902-4793-87EF-869114D8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963B-A6C1-486D-A809-AFF759BBD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35B8-EFDC-4B83-908B-8EF01D597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BC47-B1B7-48E6-A2B1-6B93066E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D9FB-E2A0-4834-B3C8-BA7BC6AA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BA8E-BB6B-49F1-BD50-DBFA471B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2458-DA6C-44E3-8D54-0F40937F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9824-B8DE-4E8A-BD1C-C6BC3666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F97A-E23C-4AA3-8846-4E060DA4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29F9-D433-4E05-ACE1-AEAC3640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C225-53D3-4244-8B71-7AF7154A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E5085B-3B5A-477D-BE43-56F4D9A36A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