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32720"/>
        <c:axId val="9731795"/>
      </c:barChart>
      <c:catAx>
        <c:axId val="8623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1795"/>
        <c:crosses val="autoZero"/>
        <c:auto val="1"/>
        <c:lblAlgn val="ctr"/>
        <c:lblOffset val="100"/>
        <c:noMultiLvlLbl val="0"/>
      </c:catAx>
      <c:valAx>
        <c:axId val="9731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3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5F7-7E98-46BD-8299-0AC7145A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BF-2B1C-4406-90AD-D8E2CC04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098-F55B-4AD1-8639-6B64ABA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392-8CB5-457E-A155-E6D09F70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83A-918A-4CA3-917E-E85F551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D60-EC11-4DD5-A63F-7C3E4E1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855-C388-435F-8F60-3A752FB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9C4-6233-4B93-A149-295F353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966-BB3D-4F67-BBF9-0825AA9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69C-05E8-4EEB-A54F-BE3FB18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24D-EA3B-4412-A5AF-5B30612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DE2-DA0F-403F-8135-5C182D2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CF77F-8722-416C-B8E4-C6CEC95B59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