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564541"/>
        <c:axId val="92301701"/>
      </c:barChart>
      <c:catAx>
        <c:axId val="85564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01701"/>
        <c:crosses val="autoZero"/>
        <c:auto val="1"/>
        <c:lblAlgn val="ctr"/>
        <c:lblOffset val="100"/>
        <c:noMultiLvlLbl val="0"/>
      </c:catAx>
      <c:valAx>
        <c:axId val="923017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64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6448-EFCE-49B4-B3FE-72480B23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E844-7674-49BB-9987-F2FAFF6E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511-55FB-4E00-AEAC-9F21250A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FEF-2F25-41D8-82D8-B6BC9D4B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BF0D-1F0F-4B55-8A35-DD9DFA06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06F-2D38-450D-AA1A-5481D377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118E-D677-4352-817E-E068AC2A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723B-9EAF-4B6D-8C3F-C7A1733E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F52-8EA1-4FFC-9BF1-00A6AD43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50F-B9BC-48A2-ADE9-0C622832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DED-CBC3-4E96-8DB9-1379788F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210-AB26-4B9C-AC7E-87AEA3BD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C883E-A7A5-4245-9D08-0ECED32509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