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29428"/>
        <c:axId val="91490523"/>
      </c:barChart>
      <c:catAx>
        <c:axId val="76929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90523"/>
        <c:crosses val="autoZero"/>
        <c:auto val="1"/>
        <c:lblAlgn val="ctr"/>
        <c:lblOffset val="100"/>
        <c:noMultiLvlLbl val="0"/>
      </c:catAx>
      <c:valAx>
        <c:axId val="91490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29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E31-B2F6-4A71-84F8-D5223A5BB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EBD-2877-453F-A2FA-208AA58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A2F0-24C3-43F9-8C95-DC3F6458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3D7-848F-4644-9617-4845BFC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208-B575-43D6-867B-06256F84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774-927E-49B9-B134-E9D0409B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77E-EA26-403A-9BEF-7EEBAB3D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976-C490-42A3-8A69-D807C09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275-1E75-4299-BEB4-648DD0B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B2C-0AA3-4D53-ABE5-80201BE3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1DCC-1A65-40B2-9838-6ADAEE73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493-5EE8-4210-9A95-ED703B73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AAB23-E69F-49E9-A9C7-AC5BEEE7F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