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36504"/>
        <c:axId val="83656238"/>
      </c:barChart>
      <c:catAx>
        <c:axId val="19636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6238"/>
        <c:crosses val="autoZero"/>
        <c:auto val="1"/>
        <c:lblAlgn val="ctr"/>
        <c:lblOffset val="100"/>
        <c:noMultiLvlLbl val="0"/>
      </c:catAx>
      <c:valAx>
        <c:axId val="83656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36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23B-2EED-4917-8003-D5DDBDE3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C97-9E30-4F17-BA48-66BF258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8F0-4438-4DB7-8182-E13E01C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747-AFD4-416A-9718-D50F3256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D1A-AE7C-41E5-8101-12E90C9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598-1813-4C8C-BF7D-3FC0F27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752-A6D9-4BD2-BF78-D5B9671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509-6AE0-4FD0-B1CD-67C8CB5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91F-A4C1-40CA-A967-D40741FA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BA8-0A00-4FC6-BDD1-193C0AF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DE5-2CCE-4722-92A4-9E33EAF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89D-4AB5-49A7-B0BF-243D1DB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BE2D6-F518-419B-81E9-BF879EE52C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