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5691"/>
        <c:axId val="17098871"/>
      </c:barChart>
      <c:catAx>
        <c:axId val="8955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98871"/>
        <c:crosses val="autoZero"/>
        <c:auto val="1"/>
        <c:lblAlgn val="ctr"/>
        <c:lblOffset val="100"/>
        <c:noMultiLvlLbl val="0"/>
      </c:catAx>
      <c:valAx>
        <c:axId val="17098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5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2D0-0F35-4C13-8AC6-567552AE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DE9-1C6A-4F03-B281-3081CB7B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96F-0FEE-481E-9F8C-C51087A6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82B-D43C-47BB-A5D0-2D4D04E0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261-BAAE-4661-8EA7-B2C4BFC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C7C-3E37-4F4D-8781-B4EFFE93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74F-BD57-4333-BB93-1F0F11D4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DE2-B4CB-454A-9BF2-F5E5999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8E1-1C68-452C-B47E-EC2E893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9F8-2565-4D15-9BFC-850B7FD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8AD-35AB-4C47-9DC1-9094E62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244-6021-447A-88BE-8FABA865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A947C-3B0F-4DC5-BE51-529CE38390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