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288961"/>
        <c:axId val="75438360"/>
      </c:barChart>
      <c:catAx>
        <c:axId val="412889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38360"/>
        <c:crosses val="autoZero"/>
        <c:auto val="1"/>
        <c:lblAlgn val="ctr"/>
        <c:lblOffset val="100"/>
        <c:noMultiLvlLbl val="0"/>
      </c:catAx>
      <c:valAx>
        <c:axId val="754383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2889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971A-888A-49A6-9C7B-CFC513F34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0254-AE46-4A0F-9742-6115BB19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FCE8-629A-439A-A6ED-FEA3E80AB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52D1-7D08-44C3-9C16-218E516DA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56C9-C048-4744-8F91-96763A61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0AA2-C3EF-42F7-B1D3-BD2E4BEF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BCBA-52AC-40D5-B5EA-5B2B7684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2EEA-D985-49AC-98C3-72EFDE36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FF10-1481-47E2-8E52-ED0C4590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3B01-6A56-4719-AC8F-0439EEF3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397F-0A17-4E19-BC53-BCF6D8FE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F260-67B7-498B-BBB8-5F8489A4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827D7-83E0-48AD-9021-E18137CB50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