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12751"/>
        <c:axId val="70857451"/>
      </c:barChart>
      <c:catAx>
        <c:axId val="15412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57451"/>
        <c:crosses val="autoZero"/>
        <c:auto val="1"/>
        <c:lblAlgn val="ctr"/>
        <c:lblOffset val="100"/>
        <c:noMultiLvlLbl val="0"/>
      </c:catAx>
      <c:valAx>
        <c:axId val="70857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12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688-A3BF-4B3D-A484-0A11D6A1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1F8-5D9C-4FC1-8F2F-61B7ABAD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B2D-FC2D-4576-B946-C1EA026A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312-2E78-4529-8635-15F89487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257-F426-453C-AC87-04047D10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65A-8A0F-4CB1-92EA-31EA930C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7F4-5700-4621-9C73-C1F360A8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71C-CC3C-4E78-BA3F-1DF7329C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7A1-BAF6-4F6C-82D1-7C2753E3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DCC-9C09-4EE8-9A82-78BA9E9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A12-88A3-4E4A-9041-8BACBBB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2AE-397A-4B50-A871-3CE69E9E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1EB70-F44E-4FB1-8425-07956C972E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