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296580"/>
        <c:axId val="94070707"/>
      </c:barChart>
      <c:catAx>
        <c:axId val="122965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70707"/>
        <c:crosses val="autoZero"/>
        <c:auto val="1"/>
        <c:lblAlgn val="ctr"/>
        <c:lblOffset val="100"/>
        <c:noMultiLvlLbl val="0"/>
      </c:catAx>
      <c:valAx>
        <c:axId val="94070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965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3E1-26DC-4712-889B-483148A4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F727-98F0-431C-AC52-0B7343D4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D2F9-DD97-48E0-8164-941FADCD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139-7E21-42AB-9B39-E66D5B98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FA17-8D94-47FF-A147-5301C3DA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1631-3CE9-40A1-9812-FCBB4F84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D2F2-2FAD-4BFE-8ADB-49BF4D95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C51-A999-4353-9FE0-80E80417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745C-4D50-4C68-90C9-D4C79B23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9E3-1478-4513-86A8-FF45E907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1F75-3273-40AC-AC07-F0DEA936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E3FD-65DF-4465-A0DC-E547E8D7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A25CC-5152-4A9E-8056-5B2C5D2F66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