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89386"/>
        <c:axId val="42105841"/>
      </c:barChart>
      <c:catAx>
        <c:axId val="98989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05841"/>
        <c:crosses val="autoZero"/>
        <c:auto val="1"/>
        <c:lblAlgn val="ctr"/>
        <c:lblOffset val="100"/>
        <c:noMultiLvlLbl val="0"/>
      </c:catAx>
      <c:valAx>
        <c:axId val="42105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89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307-6D28-4786-BABE-117F3199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FF6-C47B-4A73-B493-18D2D54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FDD-50E9-4753-9C8D-5BC5EAD7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F8E-D43F-43AF-A094-B607A0F7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125-0FC3-4A86-81EE-FA385F6B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001-5430-4055-9C37-5A629A98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7A2-9ADD-46A3-8A45-E9B66CC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AA8-8519-4FBA-967F-3DA2625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327-F286-49DE-AC04-D4C73070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A3F-72A9-46D1-A5C8-2B360A47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A71-0F50-4878-B80B-C1B97983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EE0-1519-4780-89B1-B0BE57E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F8447-3ADE-4F3F-BD70-816CEA13D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