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98628"/>
        <c:axId val="50397585"/>
      </c:barChart>
      <c:catAx>
        <c:axId val="97398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97585"/>
        <c:crosses val="autoZero"/>
        <c:auto val="1"/>
        <c:lblAlgn val="ctr"/>
        <c:lblOffset val="100"/>
        <c:noMultiLvlLbl val="0"/>
      </c:catAx>
      <c:valAx>
        <c:axId val="50397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98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B76-2121-4677-AA9C-8EA023D4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348-0A50-4161-9090-164AD214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0C8-A045-4AC0-9D84-ECA44E1C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2AF-C55A-4978-8366-5CD18BD8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B3F-E4FE-4B6A-AC52-5E7A495A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C3B-9B9E-44A0-A6F1-E7808922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57DA-98F0-4141-9ADA-5D0B08B6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6C8-31CA-446E-AC03-3DAC4750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0B0D-4549-43DD-BAE0-8D6EB510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D275-309E-4637-9809-44037F96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781-1A25-4D54-BFE2-3CC906C8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8F1-E269-4F2B-BF5F-8B92816F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DE5E9-BD1E-49C0-A4A6-EE59E37800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