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20806"/>
        <c:axId val="34289714"/>
      </c:barChart>
      <c:catAx>
        <c:axId val="84620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89714"/>
        <c:crosses val="autoZero"/>
        <c:auto val="1"/>
        <c:lblAlgn val="ctr"/>
        <c:lblOffset val="100"/>
        <c:noMultiLvlLbl val="0"/>
      </c:catAx>
      <c:valAx>
        <c:axId val="34289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20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8A0-653D-4E99-B297-C62BF05A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BFB-5532-4F75-A196-7FAAAE93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EFC-F80D-4957-A18A-5FCB3512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F48-3C8D-4922-BB57-4396CEB0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BCD-030F-4C8F-B8B3-70A47787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E28-596D-4840-BA67-BF95D030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10F-C8EB-48E7-9EC8-03586604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87A-BE89-4080-8EBD-E0E921E7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BA3-9C53-46F5-BDFD-214B2FBB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28F-1C4D-4ACB-9B04-969A63D9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A44-901F-46AE-BE58-A7D943A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A91-DBEB-4A8D-A79B-78DE755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AC05A-E69A-4E3D-926C-958CEF2AF1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