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45753"/>
        <c:axId val="90330538"/>
      </c:barChart>
      <c:catAx>
        <c:axId val="11345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30538"/>
        <c:crosses val="autoZero"/>
        <c:auto val="1"/>
        <c:lblAlgn val="ctr"/>
        <c:lblOffset val="100"/>
        <c:noMultiLvlLbl val="0"/>
      </c:catAx>
      <c:valAx>
        <c:axId val="90330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45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BAC-CF99-48EC-96D6-89ACE73C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760-C3F1-4203-8882-E783B6F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4D4-C372-4C3A-9AE2-76C1E510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604-E30B-4093-87A8-D08FD56C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5AA-04AF-4AE4-8AED-87AFE3F8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0BE-D560-42D0-AD5B-BE524A45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3D1-D41C-44F2-B97E-7477D1D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26E-9E1E-4711-BBFE-827B01D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B97-110A-45FD-BB2F-62B3542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503-8DE7-4DF7-BDAB-102C7D3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C24-8840-4D88-830A-EE98497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962-EF61-4D76-B068-3500520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9F9DB-3B9E-4844-890E-7F312E650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