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67725"/>
        <c:axId val="90825438"/>
      </c:barChart>
      <c:catAx>
        <c:axId val="90267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25438"/>
        <c:crosses val="autoZero"/>
        <c:auto val="1"/>
        <c:lblAlgn val="ctr"/>
        <c:lblOffset val="100"/>
        <c:noMultiLvlLbl val="0"/>
      </c:catAx>
      <c:valAx>
        <c:axId val="90825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7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A6E-E0F9-4093-9EC5-18C26C5F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61A-7980-4907-9CE5-CD4A731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53C-43D9-41AF-A0A8-61386841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74A-F5A9-4974-84A7-1DC19F86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FC0-AF9E-403F-871B-19CCF43F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11C-D36B-4661-AE82-A9103E7C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0B1-53A5-43A2-BF01-0D014091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19B-363D-4B6B-8949-C7C88BE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D99-0F6A-4BE4-9951-FE7684C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2A3-8EBC-47CD-8761-CE1815E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196-E892-4B87-A47F-CA16203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754-CEA9-4DDC-8D0D-B02EA6B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39669-0BA8-4033-BCD7-108BD973F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