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5051325"/>
        <c:axId val="2187040"/>
      </c:barChart>
      <c:catAx>
        <c:axId val="8505132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87040"/>
        <c:crosses val="autoZero"/>
        <c:auto val="1"/>
        <c:lblAlgn val="ctr"/>
        <c:lblOffset val="100"/>
        <c:noMultiLvlLbl val="0"/>
      </c:catAx>
      <c:valAx>
        <c:axId val="218704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05132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8B9E-7D55-482E-8FCC-386FBF8CC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F191-EAB4-4644-9E6B-3329850A2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D5BD-BDC6-40F7-AE39-46FB97A48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2E14-0CBA-4EB9-80FE-BEB6EE17A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49CE-FBBD-4AA1-A0C3-28851B666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65F6-3FA2-40C1-826F-73C44023E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DB5D-99FE-4AD3-B1A9-539EEC34B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61B0-166B-4B8C-A95E-2E94F608E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B15E-B494-4293-BF66-D5E49D7BA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ED59-F240-44F6-9A14-119CCA8B9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2DF9-CE9F-4AC5-9CE6-689C23FC6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CC0F-4314-408D-8E26-0179BA9BE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AB81CB-34D4-4EF6-AD66-6A229F3A498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