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991013"/>
        <c:axId val="43838316"/>
      </c:barChart>
      <c:catAx>
        <c:axId val="879910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38316"/>
        <c:crosses val="autoZero"/>
        <c:auto val="1"/>
        <c:lblAlgn val="ctr"/>
        <c:lblOffset val="100"/>
        <c:noMultiLvlLbl val="0"/>
      </c:catAx>
      <c:valAx>
        <c:axId val="438383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910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02D0-BF54-44D5-8250-9D13DF53C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7600-4304-4055-A864-0619A0A8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A4BB-36B2-41B8-BC28-D2AA92696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0B16-1774-4F77-9270-402FA3BC5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2097-54FC-4786-926D-743531C7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987C-A719-42B3-B23A-97438D91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65C9-E862-481B-9CF0-57A69C60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5214-0A48-4A0A-A15C-CA94224E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5A43-403F-41B6-B589-23A97C0C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A0ED-91CE-4958-B620-36DEC786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67BA-555E-46B7-83AA-930CFE65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4009-C4EA-4A67-B489-F717CDDD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68EB3-05F7-49B5-9464-7436DE4499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