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37046"/>
        <c:axId val="53416596"/>
      </c:barChart>
      <c:catAx>
        <c:axId val="83037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6596"/>
        <c:crosses val="autoZero"/>
        <c:auto val="1"/>
        <c:lblAlgn val="ctr"/>
        <c:lblOffset val="100"/>
        <c:noMultiLvlLbl val="0"/>
      </c:catAx>
      <c:valAx>
        <c:axId val="53416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37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78F-5D01-43A8-AC1D-6527E71F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447-7551-43E4-9F60-89EB5BC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EBC-9778-4476-A037-0FE80F5D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C36-63D0-4DDC-B485-DA143C21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7DD-6B05-4373-A7F6-CD843A7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E53-9D2F-411D-85A7-5B8BA45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BEC-BF1C-4A41-B5DD-4EEEB66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D66-ACEC-4AA6-8895-7190C276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4C7-7E9B-40F9-8092-60B428C8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73C-6798-4060-AC8C-0CEC498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005-3DD3-47EE-BFC3-7E71D57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069-0A31-4B42-A6B6-50A4788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DB62-27B4-4FB7-9090-50B16B048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