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21876"/>
        <c:axId val="85038979"/>
      </c:barChart>
      <c:catAx>
        <c:axId val="18521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8979"/>
        <c:crosses val="autoZero"/>
        <c:auto val="1"/>
        <c:lblAlgn val="ctr"/>
        <c:lblOffset val="100"/>
        <c:noMultiLvlLbl val="0"/>
      </c:catAx>
      <c:valAx>
        <c:axId val="85038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21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BD1-4027-4286-868B-752A6FC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251-8046-4CF0-8A56-DBB700D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63E-4442-42B5-A27F-0CF2E8D8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B3B-035C-47FC-87FF-D9370333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F03-7795-484D-B0F4-AC298567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402-32A6-4D64-866A-C597C79A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1FF-C6C0-451C-BA79-AF78A88A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D59-7704-4256-A7E6-9E2BDB7C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584-508C-4E58-A5F7-DA05800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3CC-05C0-4705-B37A-CB3903F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9B1-C462-4739-A258-59EBA58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CD8-2A58-42B4-A8AD-A9309B1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91F2F-76EB-473C-B869-F1D5298CC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