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98226"/>
        <c:axId val="92261409"/>
      </c:barChart>
      <c:catAx>
        <c:axId val="30098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61409"/>
        <c:crosses val="autoZero"/>
        <c:auto val="1"/>
        <c:lblAlgn val="ctr"/>
        <c:lblOffset val="100"/>
        <c:noMultiLvlLbl val="0"/>
      </c:catAx>
      <c:valAx>
        <c:axId val="92261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98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AE1-2E76-46B8-8E3F-CBCFD5E6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586-AE24-45DA-B336-CC939D8A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A9A-E95F-41B4-8A58-F3BFB27F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869-F30E-4874-9BF0-BDFF675B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DBB-D365-4B1B-83D9-EBE64978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D94-FE49-4795-AFD8-35D6631C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88F-A54E-41E4-85D4-7DA86C5A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79C-A822-4086-9ED7-8F7D5508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D31-7B84-4F60-9764-8CC65DAE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38B-3077-4BB7-AC64-FB68BC56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83A-394C-47A2-AE2E-8C8E2E8C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D7A-A25F-4626-80E1-C8817E63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BB386-0615-474F-B19C-BC90CC95DD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