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31761"/>
        <c:axId val="30802738"/>
      </c:barChart>
      <c:catAx>
        <c:axId val="865317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02738"/>
        <c:crosses val="autoZero"/>
        <c:auto val="1"/>
        <c:lblAlgn val="ctr"/>
        <c:lblOffset val="100"/>
        <c:noMultiLvlLbl val="0"/>
      </c:catAx>
      <c:valAx>
        <c:axId val="30802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317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4772-C341-4B41-9AE8-5CBC59AB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12E-7D6B-4156-A05C-7B144B72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F43B-D8B2-46BC-9F11-FFA8319F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F53-91B6-4845-BA73-13061D82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4F7-1240-4EBF-B2A7-23055D4C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A01F-DE46-4178-95AA-C21EEF52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615-FE19-4179-8F3C-6D335FA6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64DB-F291-404C-9C63-27280398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00C-0CC2-4BF4-AEA3-55438E79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020-D5AC-4EA0-B406-E3903B91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3CBE-1B4F-49AA-9042-A62CA065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3087-8E91-4D25-B720-18228B24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C1A16-7891-4864-A91C-B4B2F171AC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