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75700"/>
        <c:axId val="10180173"/>
      </c:barChart>
      <c:catAx>
        <c:axId val="57775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80173"/>
        <c:crosses val="autoZero"/>
        <c:auto val="1"/>
        <c:lblAlgn val="ctr"/>
        <c:lblOffset val="100"/>
        <c:noMultiLvlLbl val="0"/>
      </c:catAx>
      <c:valAx>
        <c:axId val="10180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75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9792-9808-4D97-81E5-4EFB06C5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81B-0D44-46B1-BBD1-8516AA61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AAB-1AA4-410A-9505-A6002D83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57D-064C-4BF2-B2D8-3E255E69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8D1-E2AE-48E1-AF13-C09946AE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AC2-1A5A-4BA9-B585-7BB0027E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A50-15BE-4EE1-9581-420CFC26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2D8-7A2B-4206-B80E-2476E7F8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B89-79DC-43DC-9F5A-E766E54E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878-5E5D-40A5-9633-038B8F9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250-172C-4633-B438-5596B591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FD7-06B9-4A7F-94D6-505BB012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9E647-4C46-4064-917F-C3BF33C81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