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98683"/>
        <c:axId val="57359378"/>
      </c:barChart>
      <c:catAx>
        <c:axId val="59698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59378"/>
        <c:crosses val="autoZero"/>
        <c:auto val="1"/>
        <c:lblAlgn val="ctr"/>
        <c:lblOffset val="100"/>
        <c:noMultiLvlLbl val="0"/>
      </c:catAx>
      <c:valAx>
        <c:axId val="57359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98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32C-4919-4648-8466-340EB917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A02-366A-4979-9B58-8DAE0B53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995-240A-4135-8477-24F61BBF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C52-7BC2-4596-BEB1-F8FF50E3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851-8054-4FB8-8E7F-E81712B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8FA-95E5-4DA0-8B06-7E641C31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6FE-8137-48C6-8BE4-BCD671E1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1FE-3DC0-4E7F-96A0-751C08F3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1A6-E084-44E6-94B2-CD811E7E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9C0-4FB3-4932-9641-DFC7333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801-8BC7-4142-A72B-B01BAD3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1B8-83C9-4D3F-94D0-9C3AA29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E484-4095-4B56-BBC5-8CEF2F7364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