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28618"/>
        <c:axId val="1827964"/>
      </c:barChart>
      <c:catAx>
        <c:axId val="30528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7964"/>
        <c:crosses val="autoZero"/>
        <c:auto val="1"/>
        <c:lblAlgn val="ctr"/>
        <c:lblOffset val="100"/>
        <c:noMultiLvlLbl val="0"/>
      </c:catAx>
      <c:valAx>
        <c:axId val="1827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28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6B9-23DB-4263-9B07-6CF12DE1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D2D-8C59-4CD1-84E9-CADAD19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362-04CB-458A-825A-13FBA06A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450-EB69-4402-B0BD-AF9BEBB1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F9F-4C96-474C-B1B7-06CC40D1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C60-5F0D-498E-9196-608CDE5E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BC2-37E3-4EF1-B925-2374B04E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995-A0E2-4BB3-B57D-2B32484A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F9C-A6F0-427E-90F3-71FDF710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79E-CD3C-415B-BF8E-ACB45BB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799-FF11-4333-A527-00D3B133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098-8B7B-4258-8C51-EB4FF6C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45FF9-5B55-4F34-9688-C1258A738F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