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544252"/>
        <c:axId val="96778513"/>
      </c:barChart>
      <c:catAx>
        <c:axId val="515442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78513"/>
        <c:crosses val="autoZero"/>
        <c:auto val="1"/>
        <c:lblAlgn val="ctr"/>
        <c:lblOffset val="100"/>
        <c:noMultiLvlLbl val="0"/>
      </c:catAx>
      <c:valAx>
        <c:axId val="967785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442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C81C-14C9-4793-8175-7AE74D24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04BB-DBC3-49CD-BFCD-30C5DA5E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846F-573E-499B-9AEF-04DE37D45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E713-202F-434D-A7CC-294BDB88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DA55-4CEB-4C8A-818F-856E0C5B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5C58-E332-4B82-840C-30D24AF7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D371-6FFF-409F-A9EC-9324CBF8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0260-8EE0-4632-9997-681B68C0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48DA-7D16-41D2-8C4F-E8D267BB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7734-741D-4534-8281-0BB441EC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4B98-2328-4DC7-BB52-96D2E604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BDE1-33E3-4FB0-AB74-7F90ED28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3DDCA-235C-459F-A882-9F3EE200A2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