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54721"/>
        <c:axId val="57979490"/>
      </c:barChart>
      <c:catAx>
        <c:axId val="57554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79490"/>
        <c:crosses val="autoZero"/>
        <c:auto val="1"/>
        <c:lblAlgn val="ctr"/>
        <c:lblOffset val="100"/>
        <c:noMultiLvlLbl val="0"/>
      </c:catAx>
      <c:valAx>
        <c:axId val="57979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54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03D-05A0-46CE-81BE-2DE54069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18C-E03D-4EAA-B52F-751D4768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333-D8CD-49A2-B3E2-BE3FB9F8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2A2-7627-4EF9-B374-6EA57C65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E5B-2DC6-4D4C-A4FD-AE8DA3A3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41A-A7AA-4C2C-95A8-F734FC42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AC9-DA2E-43BA-8155-F086A582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6A0-6399-40F7-B5B4-0E3903D7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695-D5BB-49DE-8420-C8D751B0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682A-F644-4C14-85E1-60CFF38A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3F4-54B9-43E4-A312-F80A5E45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AFE-2BD0-4429-8956-D487EF9F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72262-2567-481F-94E0-ABE571CAC6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