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87698"/>
        <c:axId val="60354861"/>
      </c:barChart>
      <c:catAx>
        <c:axId val="56287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54861"/>
        <c:crosses val="autoZero"/>
        <c:auto val="1"/>
        <c:lblAlgn val="ctr"/>
        <c:lblOffset val="100"/>
        <c:noMultiLvlLbl val="0"/>
      </c:catAx>
      <c:valAx>
        <c:axId val="603548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87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8A49-E0EB-4526-9C7E-2A95D3B2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BC6-A3F6-4771-9422-BF953257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36A0-ADB9-4A06-8D2F-DB3BAFFB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54F-0BBE-49E6-A1A2-4152DEC4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7B70-08D1-44FC-B70E-1EA485B9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4EC-D10F-4DF1-BE88-0038344A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3E17-6DA6-4477-BA9D-C1894ABE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C084-0D6E-42BB-9229-BFA0CB4F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EF22-C21D-49D6-8616-9B3C582D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9D4-2BD5-4AFD-B00D-3CDBA73D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97C-A1D7-4D10-B325-614ADAD2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48C9-A84D-4219-A8AE-5512D006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686F0-ABB6-4918-8FB7-9A0517A615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