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604018"/>
        <c:axId val="74941841"/>
      </c:barChart>
      <c:catAx>
        <c:axId val="336040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41841"/>
        <c:crosses val="autoZero"/>
        <c:auto val="1"/>
        <c:lblAlgn val="ctr"/>
        <c:lblOffset val="100"/>
        <c:noMultiLvlLbl val="0"/>
      </c:catAx>
      <c:valAx>
        <c:axId val="74941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040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681-ED18-4E05-A37F-456D7847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B5A4-A34E-4D18-95CF-A5C4CB99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432-D01A-46D8-83BB-0ECD0934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6E91-ADFF-424A-8C0B-483C2FAD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A387-6FC5-4DC1-997B-513CADB9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D19D-5306-494B-AFDD-15FE3337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25C-9F26-4D34-AC1E-D5D2C8E4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36C9-0060-480A-B4B3-6FDAF343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A8F4-7065-45DA-B80E-CC3DE114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D7C1-3708-462D-A87C-7C6009A1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039F-92D2-479D-9A46-A3099B28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FB7F-F5FA-473D-A61C-01E0696A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A856C-6343-442F-A411-A69BFECD93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