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77315"/>
        <c:axId val="53920388"/>
      </c:barChart>
      <c:catAx>
        <c:axId val="76777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20388"/>
        <c:crosses val="autoZero"/>
        <c:auto val="1"/>
        <c:lblAlgn val="ctr"/>
        <c:lblOffset val="100"/>
        <c:noMultiLvlLbl val="0"/>
      </c:catAx>
      <c:valAx>
        <c:axId val="53920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77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BB1-279D-4A25-BAD6-A8DDBB5D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03E-B054-4798-8DD4-5B3F531C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0F3-9F1E-42CF-9B29-4EFC4854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9FB-C0A0-49CA-AAAD-A15D653C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6C5-A13C-4553-B7DC-D0809527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4CD-A415-402C-8027-9CF8CB4D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A03-6584-45B4-B259-5C6C0B8A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B58-0FCA-4F87-8B9F-E59508EF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E2E-D649-4A10-AA86-7068386E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F65-52D4-4CB7-A0E0-DD0624CB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856-4172-4BA1-A9E0-936B3E69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CC6-5015-41ED-9849-0FC3E2C3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F9DE9-289C-4156-894D-7C23E1C793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