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17559"/>
        <c:axId val="80698391"/>
      </c:barChart>
      <c:catAx>
        <c:axId val="60217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98391"/>
        <c:crosses val="autoZero"/>
        <c:auto val="1"/>
        <c:lblAlgn val="ctr"/>
        <c:lblOffset val="100"/>
        <c:noMultiLvlLbl val="0"/>
      </c:catAx>
      <c:valAx>
        <c:axId val="80698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17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731-67AE-4EEE-88D1-36F742DA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B67-7B6B-4215-8944-40EC29C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C27-F30D-4600-AD1C-F86D8DE0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5D5-2B5F-4FEC-B2D2-B2040433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06E-4FDB-4028-9E08-CA40C0AD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D0C-34DB-40D3-8795-E6C25AF5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F5F-0E32-4A19-8B74-71CCB9A8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870-4047-4B52-9160-731E7FC0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7FC-3643-4C4D-AA2C-C54A6B8C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432-8A8B-4087-8550-8EB820D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897-1A17-4C07-9CB9-5D83141D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A04-EAC8-43D0-AE9D-A6298676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65EE9-FAC6-415C-9F39-697D2A334C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